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177-CD8B-484C-B34E-F3528D09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F59-F024-4C5B-95BE-603308FC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BA3-4397-4EB4-8307-D51B7102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590-E6B8-4202-A839-111A7D11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153-FC09-4A58-AFBF-5B946373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7FD-5AFA-4442-AECD-10F488B4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766-1541-437B-BA15-6165C72D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5A4-8303-46FF-A7B2-D1129634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E31-A408-4A4A-A51B-40E9FD4D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568-6C86-4AEB-A0D6-D9FC66AE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5F6-C549-4796-BEF8-AB167DEE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DCC-4985-41F1-A46D-9E494BD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C613-809D-4B57-979B-4C5FDF231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000000"/>
                </a:solidFill>
                <a:latin typeface="Comic Sans MS"/>
              </a:rPr>
              <a:t>Les la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3828960"/>
            <a:ext cx="152244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la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La plus importante ligne qui divise le nord et le sud s’appelle l’Équateur. Cette ligne imaginaire fait le tour de la terre et on l’appelle aussi « Latitude 0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D’autres lignes peuvent être tracées d’est en ouest, parallèles à l’équate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Tous les degrés (points) au nord de l’équateur ont une latitude nord et tous les points au sud, latitude s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62520" y="52578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la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Il y a 180 latitu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Aucun point sur la terre ne peut avoir une latitude supérieure à 90 deg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a latitude du pôle nord est 90 degrés de latitude nord.  Quelle est la latitude du pôle s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Un degré de latitude équivaut environ à113k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18507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Les long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s longitudes sont aussi appelés « les méridiens ». Ces lignes joignent les 2 pôles.  Les méridiens ne sont pas parallèles parce qu’ils se rejoignent à 2 points (le pôle nord et le pôle sud). Le méridien qui passe à Greenwich (Angleterre), est le méridien 0. Les longitudes et les latitudes forment un quadrillag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511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Lucida Calligraphy"/>
              </a:rPr>
              <a:t>Les longitudes et les latit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s longitudes et les latitudes aident à trouver les endroits sur la terre. Les longitudes ne sont pas parallèles. Il y a 360 méridiens (longitudes).  Ils sont numérotés de 0-180 à l’Est de Greenwich et 0-180 à l’Ouest de Greenwi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19920" y="4656240"/>
            <a:ext cx="20034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1:54:07Z</dcterms:created>
  <dc:creator>nbdoe</dc:creator>
  <dc:description/>
  <dc:language>en-US</dc:language>
  <cp:lastModifiedBy>nbdoe</cp:lastModifiedBy>
  <dcterms:modified xsi:type="dcterms:W3CDTF">2008-11-09T22:34:05Z</dcterms:modified>
  <cp:revision>6</cp:revision>
  <dc:subject/>
  <dc:title>Les Latitudes</dc:title>
</cp:coreProperties>
</file>